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9672-6FB0-4FE8-BBF6-7CB7AAB9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6881-AB35-4E5B-9D2E-C0C0678D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1C4-35B6-49AE-BFC0-D914D289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1A5-1E2C-414E-B9B4-3CCDD888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486E-00A4-4496-9AE7-52DF8B9D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316D-2387-4B77-84CE-E9F0362A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AD8B-A68F-4D46-91F0-4BE78B55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E1D6-72EA-4C16-A48F-4B88E557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1F35-7C66-4625-A40D-90EADE85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EEC1-048E-493B-B14D-C3B16172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DB0B-DBC9-497D-B5EA-C20FE432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DA5-256D-406E-90AE-A06A7849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AE2D-F5FC-4D88-B92B-F3EE7161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9E15-8955-4127-B76D-09294BBF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B61D-F7CF-46B0-852A-F377D1B9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C8B3-7BE6-4D5C-A0DB-5F3B2E80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48C8-88C8-4B26-A3D4-8992741C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630-A21C-4942-9430-B8D89A06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C76-C407-4409-B914-5E54DC6E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81C-6EB7-48F2-BB52-3CC1C875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485-9E49-46B4-BBBE-D88DC4C8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19F0-2B66-4D25-A8D9-D3D95215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C9DB-E088-4352-B12F-2174E68A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160-D84B-4197-9FD1-71EF3DCB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2BA4-987F-4850-94E0-6839E4EA899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ED4D-DE8A-4700-9E58-A8DE4FBCEBB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Personal Learning Profi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4479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B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            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riana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4000" spc="-1" strike="noStrike">
                <a:solidFill>
                  <a:srgbClr val="ffffff"/>
                </a:solidFill>
                <a:latin typeface="Arial Black"/>
              </a:rPr>
              <a:t>My learning style is Visual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cc00"/>
                </a:solidFill>
                <a:latin typeface="Arial Black"/>
              </a:rPr>
              <a:t>This means that I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learn best by reading, watching and viewing information in pri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4400" spc="-1" strike="noStrike">
                <a:solidFill>
                  <a:srgbClr val="ffffff"/>
                </a:solidFill>
                <a:latin typeface="Arial Black"/>
              </a:rPr>
              <a:t>My learning technique is concrete sequential</a:t>
            </a:r>
            <a:r>
              <a:rPr b="0" lang="e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at means that I am realistic, orderly, logical and careful of details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 is important to lear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ow your brain works because…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ell when you do brain stimulation when you grow u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ou will know how the brain works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 can use what I have learned about the way my brain works in school. I can do this when I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ed help in a subjec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9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 found out that the left side of my brain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trols speech, reading, writing and mat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9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y intelligence type is creative intelligence that means I…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m creative in the arts able to see answers to many problems quikly and like to learn by experiencing activiti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7:57:30Z</dcterms:created>
  <dc:creator>student</dc:creator>
  <dc:description/>
  <dc:language>en-US</dc:language>
  <cp:lastModifiedBy>student</cp:lastModifiedBy>
  <dcterms:modified xsi:type="dcterms:W3CDTF">2010-10-27T17:39:09Z</dcterms:modified>
  <cp:revision>6</cp:revision>
  <dc:subject/>
  <dc:title>My Personal Learning Profile</dc:title>
</cp:coreProperties>
</file>